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1D3-D235-4213-8F30-41414D6A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475-8AC7-40F7-8C7D-B586CB96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14D-1536-4E8A-8F4B-4E0D06F8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C3B-D250-47AF-BE04-9625574C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20D-9777-4F30-B380-60C7CE2D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4D7E-0C5E-4B50-9D20-727D8E08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E9A2-FC8D-4F6E-AE7B-D8EE919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41E9-226F-4FEE-BCEB-75F7A1C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2810-1038-4EC7-8B97-12204A1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CE4F-ED33-4098-8925-B52B204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BE5-9597-4AF8-9C17-4CE4408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DE75-5E80-4DED-8EF7-02EAA5B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8412-4279-4EF0-86A6-281B0F5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87A6-C470-4532-9A0C-D2DF22D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B8EB-311C-47C0-89EF-1225013E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5224-FE1D-4B63-A9F6-57EE35A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FCAF-6B0B-4460-9028-C8FA2264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3017-1EA4-4E7E-81F6-04EB58CB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D89-7DD1-456C-8C61-A76E47E0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C3C-06E2-4BC2-B9DC-2AC048F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B17-3B18-41E4-81F0-27A57B64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904-AB23-42B9-A4BE-EC5E4AA6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C84-0D81-445A-A8F3-63DBABE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F2C-1947-4BC7-8F6F-372E4520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056A-A12D-4167-B3E2-2232EA742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0F47-1CBD-43E8-B135-93BA3D492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62160" y="1378080"/>
            <a:ext cx="410364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5440" y="5157720"/>
            <a:ext cx="8640720" cy="1440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ntact For Accelza Institute Of Banking And Finance, Contact For Banking &amp; Finance, Private Banking for Accelza Institute, Finance Jobs, Latest Bank Job Openings, Bank courses in Delhi, Apply Bank, Banking Certification, Bank Recruit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17360"/>
            <a:ext cx="7128000" cy="126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18240" y="1438200"/>
            <a:ext cx="4147920" cy="28382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Address :- C-11/215, Guru Nanak Pura, Laxmi Nag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Opp. V3S Mall, Near Nirman Vihar Metro Station, Delhi-1100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Email :- info@aibf.co.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Contact :- +91-8130595224, +91-7042632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Landline :- 011-423317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464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strongly believe that the secret of getting ahead is getting started. At AIBF, we offer a career oriented curriculum, directed to make the student productive on job from day 1. This platform offers you a chance to learn under the guidance of eminent and highly experienced faculties comprising of academics, banking &amp; finance sector. The banking sector may create up to 20 lakh new jobs in the next 5-10 years, helped by issuance of new licenses and efforts being made by the RBI and the Government to expand financial services into rural areas, according to experts. I look forward to welcoming you to AIBF with career full of opport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Brush Script Std"/>
              </a:rPr>
              <a:t>Mr. Aseem Naq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Bank Job, Apply For Fiance Course , Bank Course, Offer Banking And Finance Course, Institute Of Banking &amp; Finance in delhi, Institute Of Banking &amp; Finance in india, Indian Institute Of Finance and Banking, Banking And Finance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549360"/>
            <a:ext cx="415440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Directors Messag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297480" y="6024600"/>
            <a:ext cx="28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Arial"/>
                <a:ea typeface="Microsoft Ya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4000" y="443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60160" y="528624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Mistral"/>
              </a:rPr>
              <a:t>Our Web : </a:t>
            </a:r>
            <a:r>
              <a:rPr b="0" lang="en-US" sz="1800" spc="-1" strike="noStrike">
                <a:solidFill>
                  <a:srgbClr val="ff0000"/>
                </a:solidFill>
                <a:latin typeface="Mistral"/>
              </a:rPr>
              <a:t>http://www.aibf.co.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Mistral"/>
              </a:rPr>
              <a:t>Our Blog : </a:t>
            </a:r>
            <a:r>
              <a:rPr b="0" lang="en-US" sz="1800" spc="-1" strike="noStrike">
                <a:solidFill>
                  <a:srgbClr val="ff0000"/>
                </a:solidFill>
                <a:latin typeface="Mistral"/>
              </a:rPr>
              <a:t>http://accelzainstituteofbanking.blogspot.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2084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4320" y="2320920"/>
            <a:ext cx="895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Address :- C-11/215, Guru Nanak Pura, Laxmi Nagar,Opp. V3S Mall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ar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Nirman Vihar Metro Station, Delhi-110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Email :-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info@aibf.co.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Contact :-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+91-8130595224, +91-70426322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Landline :- 011-42331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Contact For Accelza Institute Of Banking And Finance, Contact For Banking &amp; Finance, Private Banking for Accelza Institute, Finance Jobs, Latest Bank Job Openings, Bank courses in Delhi, Apply Bank, Banking Certification, Bank Recru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dc:language>en-US</dc:language>
  <cp:lastModifiedBy/>
  <cp:lastPrinted>1899-12-30T00:00:00Z</cp:lastPrinted>
  <dcterms:modified xsi:type="dcterms:W3CDTF">2015-01-28T10:57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