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2F2-2344-48F9-A37B-06EB42E0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EE3-9979-45E1-A41F-14B945C8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71D-30B8-4FED-8EF9-7D6A3212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CD2-A190-42B3-B9D3-4FE18162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4F8-FFE9-4246-9305-9D6837EC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F56F-DBC6-48BB-9CC4-D60EADE5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BCAE-5D81-4E6C-B942-4BE90F36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3282-133C-44BE-878C-04F57480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9440-2207-4482-8CFD-DB74A8A8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D8FE-600E-47CE-9D4E-57616B5E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DC4-D56E-425E-A635-7E393442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41A1-CE81-4425-99EB-9AAD725E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2790-E6A0-42F9-A586-4FB13673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CA21-814C-4529-A906-A1642A81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B3A9-AFDB-48DA-B7D8-F06748EC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9EE9-E3E1-41D7-8ED6-AB520683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F19C-B510-4390-A34B-34BE0452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FB98-9546-403E-B28D-12EF4327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2C7-68C0-461E-AA6E-7C98F012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A0B-FF92-4125-80F8-5234B383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CFD-B061-4503-9159-80172D67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FE4-8C43-46C9-9385-F1D1F93C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49E-7A59-4B6B-8F45-EB28D1AA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763-FD18-4F55-8ADD-F98AF75D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6960-00DB-407C-B0AA-FF992D395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7945-C9E2-46A5-B9C4-8D376988B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62160" y="1378080"/>
            <a:ext cx="4103640" cy="34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25440" y="5157720"/>
            <a:ext cx="8640720" cy="1440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ontact For Accelza Institute Of Banking And Finance, Contact For Banking &amp; Finance, Private Banking for Accelza Institute, Finance Jobs, Latest Bank Job Openings, Bank courses in Delhi, Apply Bank, Banking Certification, Bank Recruit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00000" y="117360"/>
            <a:ext cx="7128000" cy="1260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18240" y="1438200"/>
            <a:ext cx="4147920" cy="28382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obo Std"/>
              </a:rPr>
              <a:t>Address :- C-11/215, Guru Nanak Pura, Laxmi Nag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obo Std"/>
              </a:rPr>
              <a:t>Opp. V3S Mall, Near Nirman Vihar Metro Station, Delhi-1100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obo Std"/>
              </a:rPr>
              <a:t>Email :- info@aibf.co.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obo Std"/>
              </a:rPr>
              <a:t>Contact :- +91-8130595224, +91-70426322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obo Std"/>
              </a:rPr>
              <a:t>Landline :- 011-423317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062080"/>
            <a:ext cx="8229600" cy="4464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strongly believe that the secret of getting ahead is getting started. At AIBF, we offer a career oriented curriculum, directed to make the student productive on job from day 1. This platform offers you a chance to learn under the guidance of eminent and highly experienced faculties comprising of academics, banking &amp; finance sector. The banking sector may create up to 20 lakh new jobs in the next 5-10 years, helped by issuance of new licenses and efforts being made by the RBI and the Government to expand financial services into rural areas, according to experts. I look forward to welcoming you to AIBF with career full of opportun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Brush Scrip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Brush Script Std"/>
              </a:rPr>
              <a:t>Mr. Aseem Naq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Bank Job, Apply For Fiance Course , Bank Course, Offer Banking And Finance Course, Institute Of Banking &amp; Finance in delhi, Institute Of Banking &amp; Finance in india, Indian Institute Of Finance and Banking, Banking And Finance Sylla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549360"/>
            <a:ext cx="415440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Directors Message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297480" y="6024600"/>
            <a:ext cx="28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Arial"/>
                <a:ea typeface="Microsoft YaHe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324000" y="443700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560160" y="5286240"/>
            <a:ext cx="61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Mistral"/>
              </a:rPr>
              <a:t>Our Web : </a:t>
            </a:r>
            <a:r>
              <a:rPr b="0" lang="en-US" sz="1800" spc="-1" strike="noStrike">
                <a:solidFill>
                  <a:srgbClr val="ff0000"/>
                </a:solidFill>
                <a:latin typeface="Mistral"/>
              </a:rPr>
              <a:t>http://www.aibf.co.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Mistral"/>
              </a:rPr>
              <a:t>Our Blog : </a:t>
            </a:r>
            <a:r>
              <a:rPr b="0" lang="en-US" sz="1800" spc="-1" strike="noStrike">
                <a:solidFill>
                  <a:srgbClr val="ff0000"/>
                </a:solidFill>
                <a:latin typeface="Mistral"/>
              </a:rPr>
              <a:t>http://accelzainstituteofbanking.blogspot.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2084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4320" y="2320920"/>
            <a:ext cx="8959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Address :- C-11/215, Guru Nanak Pura, Laxmi Nagar,Opp. V3S Mall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Near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Nirman Vihar Metro Station, Delhi-1100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Email :-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info@aibf.co.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Contact :-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+91-8130595224, +91-70426322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Landline :- 011-423317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Contact For Accelza Institute Of Banking And Finance, Contact For Banking &amp; Finance, Private Banking for Accelza Institute, Finance Jobs, Latest Bank Job Openings, Bank courses in Delhi, Apply Bank, Banking Certification, Bank Recrui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49:49Z</dcterms:created>
  <dc:creator>Administrator</dc:creator>
  <dc:description/>
  <dc:language>en-US</dc:language>
  <cp:lastModifiedBy/>
  <cp:lastPrinted>1899-12-30T00:00:00Z</cp:lastPrinted>
  <dcterms:modified xsi:type="dcterms:W3CDTF">2015-01-28T10:57:2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550</vt:lpwstr>
  </property>
</Properties>
</file>