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ED76-3C66-4B89-9898-F34B8488D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0107-DA68-4E36-A432-FF9D9A70A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349C-AFFB-4832-AAA9-AA026DDB4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5EEF-DB5E-4086-990E-26F60ABA5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18FE8-45CF-4FF8-86AF-69929A727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84618-4944-4CC7-B75B-B47B2F153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1E3CA-DAC3-44A4-B04F-A67FFE16B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7E322-6E39-4ED2-9D94-A49F5501F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ACB15-7530-47F8-922F-70F891A59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33FF3-F1CE-49B9-B6D0-9394153B7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7C44A-7A1B-4269-B934-3A4DCD12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6566-A402-4D62-846C-B04A355D2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7FF7A-3674-4F7A-81C9-34F0C416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B9254-C877-4767-959A-8317EE10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175AB-ED7E-41F6-824A-607001D4B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3F0D1-ED87-4EBB-88E7-E0B1360BF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B24B5-7400-41A2-9351-78589A141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780D-FA94-4729-AC17-77D17CF65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A79C-CFB9-42DA-AC13-AEF30393D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FA9C-93E1-4DB4-82FC-C7666CD83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03D3-BF50-4441-A140-8B1E44DE0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DA47-B479-48F2-A73E-23989FBA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E944-19F9-4E98-91B0-999B6890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F62A-682F-4A1E-859D-BF09943A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3351"/>
            </a:gs>
            <a:gs pos="100000">
              <a:srgbClr val="4f598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282e49"/>
                </a:gs>
                <a:gs pos="100000">
                  <a:srgbClr val="3f48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303656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303657"/>
                </a:gs>
                <a:gs pos="100000">
                  <a:srgbClr val="3f48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3f4873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414974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394166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4f598d"/>
                </a:gs>
                <a:gs pos="100000">
                  <a:srgbClr val="555e9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2b314d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3f4873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2a304d"/>
                </a:gs>
                <a:gs pos="100000">
                  <a:srgbClr val="3f48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373e62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4f598d"/>
                </a:gs>
                <a:gs pos="100000">
                  <a:srgbClr val="5963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252941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292e48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32395b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4f598d"/>
                </a:gs>
                <a:gs pos="100000">
                  <a:srgbClr val="5f689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3f4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2a304d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2c3250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3f4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32395a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303656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434b77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262b45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434b77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32395b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2e3351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394166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3e466f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394166"/>
                  </a:gs>
                  <a:gs pos="100000">
                    <a:srgbClr val="4f598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4f598d"/>
                  </a:gs>
                  <a:gs pos="100000">
                    <a:srgbClr val="5f68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6600"/>
                </a:solidFill>
                <a:latin typeface="Arial Black"/>
              </a:rPr>
              <a:t>Click to edit the title text format</a:t>
            </a:r>
            <a:endParaRPr b="1" i="1" lang="en-US" sz="44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99cc00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4c8470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96a4c8"/>
              </a:buClr>
              <a:buSzPct val="9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D5F58-D9FA-4353-8B04-A674B5D0419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3351"/>
            </a:gs>
            <a:gs pos="100000">
              <a:srgbClr val="4f598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282e49"/>
                </a:gs>
                <a:gs pos="100000">
                  <a:srgbClr val="3f48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303656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303657"/>
                </a:gs>
                <a:gs pos="100000">
                  <a:srgbClr val="3f48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3f4873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414974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394166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4f598d"/>
                </a:gs>
                <a:gs pos="100000">
                  <a:srgbClr val="555e9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2b314d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3f4873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2a304d"/>
                </a:gs>
                <a:gs pos="100000">
                  <a:srgbClr val="3f48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373e62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4f598d"/>
                </a:gs>
                <a:gs pos="100000">
                  <a:srgbClr val="5963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252941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292e48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32395b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4f598d"/>
                </a:gs>
                <a:gs pos="100000">
                  <a:srgbClr val="5f689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3f4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2a304d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2c3250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3f4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32395a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303656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434b77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262b45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434b77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32395b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2e3351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394166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3e466f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394166"/>
                  </a:gs>
                  <a:gs pos="100000">
                    <a:srgbClr val="4f598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4f598d"/>
                  </a:gs>
                  <a:gs pos="100000">
                    <a:srgbClr val="5f68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6600"/>
                </a:solidFill>
                <a:latin typeface="Arial Black"/>
              </a:rPr>
              <a:t>Click to edit the title text format</a:t>
            </a:r>
            <a:endParaRPr b="1" i="1" lang="en-US" sz="44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99cc00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4c8470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96a4c8"/>
              </a:buClr>
              <a:buSzPct val="9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57C32-169B-4D2B-B722-D666498B79D3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1374480"/>
            <a:ext cx="8229600" cy="27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By</a:t>
            </a:r>
            <a:br>
              <a:rPr sz="4000"/>
            </a:br>
            <a:br>
              <a:rPr sz="4000"/>
            </a:br>
            <a:r>
              <a:rPr b="0" i="1" lang="en-US" sz="4800" spc="-1" strike="noStrike">
                <a:solidFill>
                  <a:srgbClr val="ff6600"/>
                </a:solidFill>
                <a:latin typeface="Impact"/>
                <a:ea typeface="LilyUPC"/>
              </a:rPr>
              <a:t>Prof. Dr. Adel Denewer</a:t>
            </a:r>
            <a:br>
              <a:rPr sz="4800"/>
            </a:br>
            <a:br>
              <a:rPr sz="4800"/>
            </a:br>
            <a:r>
              <a:rPr b="0" i="1" lang="en-US" sz="2800" spc="-1" strike="noStrike">
                <a:solidFill>
                  <a:srgbClr val="ffff66"/>
                </a:solidFill>
                <a:latin typeface="Impact"/>
                <a:ea typeface="LilyUPC"/>
              </a:rPr>
              <a:t>Prof. of surgical oncology </a:t>
            </a:r>
            <a:br>
              <a:rPr sz="2800"/>
            </a:br>
            <a:r>
              <a:rPr b="0" i="1" lang="en-US" sz="2800" spc="-1" strike="noStrike">
                <a:solidFill>
                  <a:srgbClr val="ffff66"/>
                </a:solidFill>
                <a:latin typeface="Impact"/>
                <a:ea typeface="LilyUPC"/>
              </a:rPr>
              <a:t>and  </a:t>
            </a:r>
            <a:br>
              <a:rPr sz="2800"/>
            </a:br>
            <a:r>
              <a:rPr b="0" i="1" lang="en-US" sz="2800" spc="-1" strike="noStrike">
                <a:solidFill>
                  <a:srgbClr val="ffff66"/>
                </a:solidFill>
                <a:latin typeface="Impact"/>
                <a:ea typeface="LilyUPC"/>
              </a:rPr>
              <a:t>head of surgical oncology department</a:t>
            </a:r>
            <a:endParaRPr b="1" i="1" lang="en-US" sz="2800" spc="-1" strike="noStrike">
              <a:solidFill>
                <a:srgbClr val="ff66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36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6600"/>
                </a:solidFill>
                <a:uFillTx/>
                <a:latin typeface="Arial Black"/>
              </a:rPr>
              <a:t>Paper 2 topics</a:t>
            </a:r>
            <a:endParaRPr b="1" i="1" lang="en-US" sz="4400" spc="-1" strike="noStrike">
              <a:solidFill>
                <a:srgbClr val="ff66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6600"/>
                </a:solidFill>
                <a:latin typeface="Arial Black"/>
              </a:rPr>
              <a:t>Peritoneum &amp; mesentry</a:t>
            </a:r>
            <a:r>
              <a:rPr b="1" i="1" lang="en-US" sz="4400" spc="-1" strike="noStrike">
                <a:solidFill>
                  <a:srgbClr val="ff6600"/>
                </a:solidFill>
                <a:latin typeface="Arial Black"/>
              </a:rPr>
              <a:t> </a:t>
            </a:r>
            <a:endParaRPr b="1" i="1" lang="en-US" sz="44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Diagnosis of acute septic periton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6600"/>
                </a:solidFill>
                <a:latin typeface="Arial Black"/>
              </a:rPr>
              <a:t>Intestinal obstruction</a:t>
            </a:r>
            <a:r>
              <a:rPr b="1" i="1" lang="en-US" sz="4400" spc="-1" strike="noStrike">
                <a:solidFill>
                  <a:srgbClr val="ff6600"/>
                </a:solidFill>
                <a:latin typeface="Arial Black"/>
              </a:rPr>
              <a:t> </a:t>
            </a:r>
            <a:endParaRPr b="1" i="1" lang="en-US" sz="44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/p, ttt of infantile ileocaecal intussuscep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ses, pathology, c/p, D, ttt of intestinal strang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ses, Pathology, diagnosis, ttt of intestinal obstruction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6600"/>
                </a:solidFill>
                <a:latin typeface="Arial Black"/>
              </a:rPr>
              <a:t>Appendix</a:t>
            </a:r>
            <a:r>
              <a:rPr b="1" i="1" lang="en-US" sz="4400" spc="-1" strike="noStrike">
                <a:solidFill>
                  <a:srgbClr val="ff6600"/>
                </a:solidFill>
                <a:latin typeface="Arial Black"/>
              </a:rPr>
              <a:t> </a:t>
            </a:r>
            <a:endParaRPr b="1" i="1" lang="en-US" sz="44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nosis, ttt of appendicular mas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ute appendiciti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6600"/>
                </a:solidFill>
                <a:latin typeface="Arial Black"/>
              </a:rPr>
              <a:t>Colon</a:t>
            </a:r>
            <a:r>
              <a:rPr b="1" i="1" lang="en-US" sz="4400" spc="-1" strike="noStrike">
                <a:solidFill>
                  <a:srgbClr val="ff6600"/>
                </a:solidFill>
                <a:latin typeface="Arial Black"/>
              </a:rPr>
              <a:t> </a:t>
            </a:r>
            <a:endParaRPr b="1" i="1" lang="en-US" sz="44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/P , investigations &amp; ttt of hirschsbrung disea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agnosis, complications &amp; ttt of diverticular disease of the col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Pathology, c/p, complications, D, ttt of ulcerative coliti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thology of Crohns disea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thology, D, ttt of cancer col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thology, c/p, d, ttt of carcinoma of caecu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thology, c/p, D, ttt of carcinoma of descending colon  xx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/p, pathology, diagnosis, management of carcinoma of rectu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are ( ) right &amp; left side of the colon as regard C/P &amp; investigations  x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D of right lumbar region masses  x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D of left lumbar region masses  x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D of masses in right hypochondrium x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D of a mass in right iliac fossa  xx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6600"/>
                </a:solidFill>
                <a:latin typeface="Arial Black"/>
              </a:rPr>
              <a:t>Anorectal</a:t>
            </a:r>
            <a:r>
              <a:rPr b="1" i="1" lang="en-US" sz="4400" spc="-1" strike="noStrike">
                <a:solidFill>
                  <a:srgbClr val="ff6600"/>
                </a:solidFill>
                <a:latin typeface="Arial Black"/>
              </a:rPr>
              <a:t> </a:t>
            </a:r>
            <a:endParaRPr b="1" i="1" lang="en-US" sz="44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Discuss types of anorectal suppur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Types, pathology, presentation, complications &amp; ttt of haemorroid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agement of anal fistul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6600"/>
                </a:solidFill>
                <a:latin typeface="Arial Black"/>
              </a:rPr>
              <a:t>GIT BLEEDING</a:t>
            </a:r>
            <a:endParaRPr b="1" i="1" lang="en-US" sz="44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0" y="1219320"/>
            <a:ext cx="68580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D of bleeding per rectu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agement of Haematems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6600"/>
                </a:solidFill>
                <a:latin typeface="Arial Black"/>
              </a:rPr>
              <a:t>Thyroid</a:t>
            </a:r>
            <a:r>
              <a:rPr b="1" i="1" lang="en-US" sz="4400" spc="-1" strike="noStrike">
                <a:solidFill>
                  <a:srgbClr val="ff6600"/>
                </a:solidFill>
                <a:latin typeface="Arial Black"/>
              </a:rPr>
              <a:t> </a:t>
            </a:r>
            <a:endParaRPr b="1" i="1" lang="en-US" sz="44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hology, diagnosis &amp; ttt of solitary thyroid nodu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hology, presentation &amp; management of thyroid malignanc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tt of papillary cancer thyroi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nosis &amp; ttt of primary thyrotoxicos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/P, diagnosis &amp; ttt of thyrotoxicos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stigations of thyroid disor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6600"/>
                </a:solidFill>
                <a:latin typeface="Arial Black"/>
              </a:rPr>
              <a:t>Breast</a:t>
            </a:r>
            <a:r>
              <a:rPr b="1" i="1" lang="en-US" sz="4400" spc="-1" strike="noStrike">
                <a:solidFill>
                  <a:srgbClr val="ff6600"/>
                </a:solidFill>
                <a:latin typeface="Arial Black"/>
              </a:rPr>
              <a:t> </a:t>
            </a:r>
            <a:endParaRPr b="1" i="1" lang="en-US" sz="44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1- D.D. of breast lum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9966"/>
                </a:solidFill>
                <a:latin typeface="Arial"/>
              </a:rPr>
              <a:t>##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9966"/>
                </a:solidFill>
                <a:latin typeface="Arial"/>
              </a:rPr>
              <a:t>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9966"/>
                </a:solidFill>
                <a:latin typeface="Arial"/>
              </a:rPr>
              <a:t>## D.D.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Histor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Examin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Investig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9966"/>
                </a:solidFill>
                <a:latin typeface="Arial"/>
              </a:rPr>
              <a:t>## ttt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76320" y="-7632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6600"/>
                </a:solidFill>
                <a:latin typeface="Arial Black"/>
              </a:rPr>
              <a:t>Esophagus</a:t>
            </a:r>
            <a:endParaRPr b="1" i="1" lang="en-US" sz="44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/P , investigations &amp; ttt of H.H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ses, pathogenesis, management of reflux oesophagit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hology, C/p &amp; ttt of cancer oesophag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/P, investigations &amp; ttt of achalasia of card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D. of dysphagia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 Black"/>
              </a:rPr>
              <a:t>2</a:t>
            </a:r>
            <a:r>
              <a:rPr b="0" lang="en-US" sz="4800" spc="-1" strike="noStrike">
                <a:solidFill>
                  <a:srgbClr val="ff0000"/>
                </a:solidFill>
                <a:latin typeface="Arial Black"/>
              </a:rPr>
              <a:t>- </a:t>
            </a:r>
            <a:r>
              <a:rPr b="0" lang="en-US" sz="4800" spc="-1" strike="noStrike">
                <a:solidFill>
                  <a:srgbClr val="ff0000"/>
                </a:solidFill>
                <a:latin typeface="Arial Black"/>
              </a:rPr>
              <a:t>D.D. of nipple discharge</a:t>
            </a:r>
            <a:r>
              <a:rPr b="0" lang="en-US" sz="4800" spc="-1" strike="noStrike">
                <a:solidFill>
                  <a:srgbClr val="ff0000"/>
                </a:solidFill>
                <a:latin typeface="Arial Black"/>
              </a:rPr>
              <a:t> </a:t>
            </a:r>
            <a:br>
              <a:rPr sz="4800"/>
            </a:br>
            <a:endParaRPr b="1" i="1" lang="en-US" sz="48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9966"/>
                </a:solidFill>
                <a:latin typeface="Arial"/>
              </a:rPr>
              <a:t>##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9966"/>
                </a:solidFill>
                <a:latin typeface="Arial"/>
              </a:rPr>
              <a:t>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9966"/>
                </a:solidFill>
                <a:latin typeface="Arial"/>
              </a:rPr>
              <a:t>## D.D.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Histor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Examin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Investigations 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9966"/>
                </a:solidFill>
                <a:latin typeface="Arial"/>
              </a:rPr>
              <a:t>## ttt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99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dlyatkin management</a:t>
            </a:r>
            <a:r>
              <a:rPr b="1" i="1" lang="en-US" sz="2800" spc="-1" strike="noStrike">
                <a:solidFill>
                  <a:srgbClr val="ff99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 Black"/>
              </a:rPr>
              <a:t>3</a:t>
            </a:r>
            <a:r>
              <a:rPr b="0" lang="en-US" sz="4800" spc="-1" strike="noStrike">
                <a:solidFill>
                  <a:srgbClr val="ff0000"/>
                </a:solidFill>
                <a:latin typeface="Arial Black"/>
              </a:rPr>
              <a:t>- </a:t>
            </a:r>
            <a:r>
              <a:rPr b="0" lang="en-US" sz="4800" spc="-1" strike="noStrike">
                <a:solidFill>
                  <a:srgbClr val="ff0000"/>
                </a:solidFill>
                <a:latin typeface="Arial Black"/>
              </a:rPr>
              <a:t>ttt of advanced cancer breast</a:t>
            </a:r>
            <a:endParaRPr b="1" i="1" lang="en-US" sz="48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A- Locally advanced cancer breast (stage III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Neoadjuvant chemotherap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Then Surgery (either mastectom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resat reconstruction or conservativ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Then chemotherap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Then radiotherap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+</a:t>
            </a: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ormonal therap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B- Metastatic advanced cancer breast (stage IV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Chemotherapy &amp; Hormonal therapy is the main ru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ule of surgery …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ule of radiotherapy ……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- Etiology, pathology, presentation, investigations &amp; management of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arl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ancer bre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6600"/>
                </a:solidFill>
                <a:latin typeface="Arial Black"/>
              </a:rPr>
              <a:t>Vascular</a:t>
            </a:r>
            <a:endParaRPr b="1" i="1" lang="en-US" sz="44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uses, c/p, diagnosis &amp; management of acute ischemia of L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etiology, c/p, investigations &amp; ttt of chronic ischemia of lower limb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/P , investigations &amp; ttt of senile gangrene of L.L. x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betic foot  x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gnosis of postphlepetic syndrom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gnosis, management &amp; complications of DVT of L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hology &amp; ttt of cervical tuberculous lymphadenitisx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ymphedema x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6600"/>
                </a:solidFill>
                <a:latin typeface="Arial Black"/>
              </a:rPr>
              <a:t>Skin and soft tissue</a:t>
            </a:r>
            <a:r>
              <a:rPr b="1" i="1" lang="en-US" sz="4400" spc="-1" strike="noStrike">
                <a:solidFill>
                  <a:srgbClr val="ff6600"/>
                </a:solidFill>
                <a:latin typeface="Arial Black"/>
              </a:rPr>
              <a:t> </a:t>
            </a:r>
            <a:endParaRPr b="1" i="1" lang="en-US" sz="44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- Types &amp; ttt of BC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- Diagnosis &amp; ttt of malignant melanom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Pathology of Sqcc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1001"/>
              </a:spcBef>
              <a:buClr>
                <a:srgbClr val="99cc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Dermoid cyst 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  xx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6600"/>
                </a:solidFill>
                <a:latin typeface="Arial Black"/>
              </a:rPr>
              <a:t>Head and neck</a:t>
            </a:r>
            <a:r>
              <a:rPr b="1" i="1" lang="en-US" sz="4400" spc="-1" strike="noStrike">
                <a:solidFill>
                  <a:srgbClr val="ff6600"/>
                </a:solidFill>
                <a:latin typeface="Arial Black"/>
              </a:rPr>
              <a:t> </a:t>
            </a:r>
            <a:endParaRPr b="1" i="1" lang="en-US" sz="44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1- Management of cancer tong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C/P: ulcer with criteria of ulce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Complica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.D.: from other causes of ulcers of the tongue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Investiga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ttt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- Operable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urgery and radiotherap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types of surgery – methods of reconstruction of tongue and mandible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- Inoperable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 Black"/>
              </a:rPr>
              <a:t>2</a:t>
            </a:r>
            <a:r>
              <a:rPr b="0" lang="en-US" sz="4800" spc="-1" strike="noStrike">
                <a:solidFill>
                  <a:srgbClr val="ff0000"/>
                </a:solidFill>
                <a:latin typeface="Arial Black"/>
              </a:rPr>
              <a:t>- </a:t>
            </a:r>
            <a:r>
              <a:rPr b="0" lang="en-US" sz="4800" spc="-1" strike="noStrike">
                <a:solidFill>
                  <a:srgbClr val="ff0000"/>
                </a:solidFill>
                <a:latin typeface="Arial Black"/>
              </a:rPr>
              <a:t>Jaw swellings</a:t>
            </a:r>
            <a:r>
              <a:rPr b="0" lang="en-US" sz="4800" spc="-1" strike="noStrike">
                <a:solidFill>
                  <a:srgbClr val="ff0000"/>
                </a:solidFill>
                <a:latin typeface="Arial Black"/>
              </a:rPr>
              <a:t>:</a:t>
            </a:r>
            <a:br>
              <a:rPr sz="4800"/>
            </a:br>
            <a:endParaRPr b="1" i="1" lang="en-US" sz="48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ses…….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Epul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Dental cys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Dentegerous cys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Adamantinom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6600"/>
                </a:solidFill>
                <a:latin typeface="Arial Black"/>
              </a:rPr>
              <a:t>3</a:t>
            </a:r>
            <a:r>
              <a:rPr b="1" i="1" lang="en-US" sz="4400" spc="-1" strike="noStrike">
                <a:solidFill>
                  <a:srgbClr val="ff6600"/>
                </a:solidFill>
                <a:latin typeface="Arial Black"/>
              </a:rPr>
              <a:t>) </a:t>
            </a:r>
            <a:r>
              <a:rPr b="1" i="1" lang="en-US" sz="4400" spc="-1" strike="noStrike">
                <a:solidFill>
                  <a:srgbClr val="ff6600"/>
                </a:solidFill>
                <a:latin typeface="Arial Black"/>
              </a:rPr>
              <a:t>SALIVARY</a:t>
            </a:r>
            <a:endParaRPr b="1" i="1" lang="en-US" sz="44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hology, diagnosis, ttt of salivary (parotid) gland tumou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/p, investigations, ttt of chronic submandibular sailoaden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D.D. of swelling in submandibular ∆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6600"/>
                </a:solidFill>
                <a:latin typeface="Arial Black"/>
              </a:rPr>
              <a:t>Hernia</a:t>
            </a:r>
            <a:r>
              <a:rPr b="1" i="1" lang="en-US" sz="4400" spc="-1" strike="noStrike">
                <a:solidFill>
                  <a:srgbClr val="ff6600"/>
                </a:solidFill>
                <a:latin typeface="Arial Black"/>
              </a:rPr>
              <a:t> </a:t>
            </a:r>
            <a:endParaRPr b="1" i="1" lang="en-US" sz="44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/P &amp; ttt of strangulated inguinal hern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6600"/>
                </a:solidFill>
                <a:latin typeface="Arial Black"/>
              </a:rPr>
              <a:t>Stomach</a:t>
            </a:r>
            <a:endParaRPr b="1" i="1" lang="en-US" sz="44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/p, D, ttt of congenital hypertrophic pyloric sten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/P &amp; ttt of D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ications &amp; their management of peptic ulc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hology, C/p, D, ttt of carcinoma of the stomac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ses of pyloric obstruction &amp; discuss management on of the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6600"/>
                </a:solidFill>
                <a:latin typeface="Arial Black"/>
              </a:rPr>
              <a:t>Male genital system</a:t>
            </a:r>
            <a:r>
              <a:rPr b="1" i="1" lang="en-US" sz="4400" spc="-1" strike="noStrike">
                <a:solidFill>
                  <a:srgbClr val="ff6600"/>
                </a:solidFill>
                <a:latin typeface="Arial Black"/>
              </a:rPr>
              <a:t> </a:t>
            </a:r>
            <a:endParaRPr b="1" i="1" lang="en-US" sz="44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Pathology of testicular tumo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6600"/>
                </a:solidFill>
                <a:latin typeface="Arial Black"/>
              </a:rPr>
              <a:t>General topics</a:t>
            </a:r>
            <a:endParaRPr b="1" i="1" lang="en-US" sz="44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Blood transfus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@ Typ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(A) Whole Bloo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1-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Direct Transfusion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2-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Fresh Blood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3-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Banked Bloo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4-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utologous transfus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(B) Blood Compon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Packed RBCs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i="1" lang="fr-FR" sz="1800" spc="-1" strike="noStrike" u="sng">
                <a:solidFill>
                  <a:srgbClr val="ffffff"/>
                </a:solidFill>
                <a:uFillTx/>
                <a:latin typeface="Arial"/>
              </a:rPr>
              <a:t>Fresh plasma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i="1" lang="fr-FR" sz="1800" spc="-1" strike="noStrike" u="sng">
                <a:solidFill>
                  <a:srgbClr val="ffffff"/>
                </a:solidFill>
                <a:uFillTx/>
                <a:latin typeface="Arial"/>
              </a:rPr>
              <a:t>Fresh frozen plas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i="1" lang="fr-FR" sz="1800" spc="-1" strike="noStrike" u="sng">
                <a:solidFill>
                  <a:srgbClr val="ffffff"/>
                </a:solidFill>
                <a:uFillTx/>
                <a:latin typeface="Arial"/>
              </a:rPr>
              <a:t>Platelet concentrates</a:t>
            </a:r>
            <a:r>
              <a:rPr b="1" i="1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i="1" lang="fr-FR" sz="1800" spc="-1" strike="noStrike" u="sng">
                <a:solidFill>
                  <a:srgbClr val="ffffff"/>
                </a:solidFill>
                <a:uFillTx/>
                <a:latin typeface="Arial"/>
              </a:rPr>
              <a:t>Plasma protein fraction</a:t>
            </a:r>
            <a:r>
              <a:rPr b="1" i="1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6. 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Platelet-rich plas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7.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Cryoprecipit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@ Complica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A- </a:t>
            </a:r>
            <a:r>
              <a:rPr b="1" i="1" lang="en-US" sz="2800" spc="-1" strike="noStrike">
                <a:solidFill>
                  <a:srgbClr val="ff9966"/>
                </a:solidFill>
                <a:latin typeface="Arial"/>
              </a:rPr>
              <a:t>In the recipient</a:t>
            </a: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. Immediate com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I. Late com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II. Complication of massive transfus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9966"/>
                </a:solidFill>
                <a:latin typeface="Arial"/>
              </a:rPr>
              <a:t>B- In the dono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1- Neurogenic sh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2- Anemia from repeated blood transfus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3- Local thrombophlebitis of the vei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Hypovolemic shock</a:t>
            </a:r>
            <a:r>
              <a:rPr b="1" i="1" lang="en-US" sz="4400" spc="-1" strike="noStrike">
                <a:solidFill>
                  <a:srgbClr val="ff6600"/>
                </a:solidFill>
                <a:latin typeface="Arial Black"/>
              </a:rPr>
              <a:t> </a:t>
            </a:r>
            <a:endParaRPr b="1" i="1" lang="en-US" sz="44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♣♣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tiolog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♣♣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thophysiolog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♣♣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nical Pictu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♣♣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vestigations &amp; Monitoring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♣♣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eatment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Septic shock</a:t>
            </a:r>
            <a:endParaRPr b="1" i="1" lang="en-US" sz="40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♣♣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the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ost seriou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ype of shoc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♣♣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tiology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♣♣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thophyiolog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♣♣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lications &amp; causes of death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♣♣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nical Pictu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♣♣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vestigations &amp; Monitoring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♣♣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eatment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Stages of cancer formation</a:t>
            </a:r>
            <a:endParaRPr b="1" i="1" lang="en-US" sz="40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9966"/>
                </a:solidFill>
                <a:latin typeface="Arial"/>
              </a:rPr>
              <a:t>## Stag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- hyperplas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- metaplas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- dysplas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- C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9966"/>
                </a:solidFill>
                <a:latin typeface="Arial"/>
              </a:rPr>
              <a:t>## characters of malignant cells facilitates metastasi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- loss of adhesive prote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- amoeboid m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- proteolytic enzy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- angiogenes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9966"/>
                </a:solidFill>
                <a:latin typeface="Arial"/>
              </a:rPr>
              <a:t>## Methods of metastasi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- Loca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- Lympha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- Bloo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- Transcolemic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- some times translumina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agement of severely (acute) injured pat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s gangren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agement of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3rd degre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urn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6600"/>
                </a:solidFill>
                <a:latin typeface="Arial Black"/>
              </a:rPr>
              <a:t>Urology</a:t>
            </a:r>
            <a:r>
              <a:rPr b="1" i="1" lang="en-US" sz="4400" spc="-1" strike="noStrike">
                <a:solidFill>
                  <a:srgbClr val="ff6600"/>
                </a:solidFill>
                <a:latin typeface="Arial Black"/>
              </a:rPr>
              <a:t> </a:t>
            </a:r>
            <a:endParaRPr b="1" i="1" lang="en-US" sz="44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ten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maturi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uri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ations of cystoscop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cer bladd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 pathology of prostatic carcinoma xx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hology, c/p, d, complications &amp; ttt of BP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agement of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en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&amp;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reteri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ton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hology, D, ttt of renal cell carcino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6600"/>
                </a:solidFill>
                <a:latin typeface="Arial Black"/>
              </a:rPr>
              <a:t>Billiary,Jaundice</a:t>
            </a:r>
            <a:endParaRPr b="1" i="1" lang="en-US" sz="44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/p, DD, of acute cholecystiti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hophysiology, Types, complications of gall ston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ses, diagnosis, management of obstructive jaundic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/p, D, ttt of calcular obstructive jaund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nosis of malignant obstructive jaundice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6600"/>
                </a:solidFill>
                <a:latin typeface="Arial Black"/>
              </a:rPr>
              <a:t>Orthopedics</a:t>
            </a:r>
            <a:r>
              <a:rPr b="1" i="1" lang="en-US" sz="4400" spc="-1" strike="noStrike">
                <a:solidFill>
                  <a:srgbClr val="ff6600"/>
                </a:solidFill>
                <a:latin typeface="Arial Black"/>
              </a:rPr>
              <a:t> </a:t>
            </a:r>
            <a:endParaRPr b="1" i="1" lang="en-US" sz="44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supracondylar fracture of humeru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Coll’s fractu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Shoulder disloc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Fracture neck femu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Fracture shaft femur  x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Acute hematogenous osteomyliti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Pott’s disease of spine (T.B. osteomylitis) xx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Chronic non-specific osteomyliti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Osteosarcom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Osteoclastom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Ewing’s tum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6600"/>
                </a:solidFill>
                <a:latin typeface="Arial Black"/>
              </a:rPr>
              <a:t>Neurosurgery</a:t>
            </a:r>
            <a:r>
              <a:rPr b="1" i="1" lang="en-US" sz="4400" spc="-1" strike="noStrike">
                <a:solidFill>
                  <a:srgbClr val="ff6600"/>
                </a:solidFill>
                <a:latin typeface="Arial Black"/>
              </a:rPr>
              <a:t> </a:t>
            </a:r>
            <a:endParaRPr b="1" i="1" lang="en-US" sz="44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iscuss Brain absces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1st aid management of sever head traum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Spina bifid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iscuss Hydrocephalus x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radial nerve injur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Ulnar nerve inju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median nerve injury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C\P &amp; investigations &amp; Management of lumbar disc diseas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Cervical disc disease x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C/P &amp; investigations of increased intracranial tension  x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6600"/>
                </a:solidFill>
                <a:latin typeface="Arial Black"/>
              </a:rPr>
              <a:t>Cardiothoracic</a:t>
            </a:r>
            <a:r>
              <a:rPr b="1" i="1" lang="en-US" sz="4400" spc="-1" strike="noStrike">
                <a:solidFill>
                  <a:srgbClr val="ff6600"/>
                </a:solidFill>
                <a:latin typeface="Arial Black"/>
              </a:rPr>
              <a:t> </a:t>
            </a:r>
            <a:endParaRPr b="1" i="1" lang="en-US" sz="44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Indications, complications of intercostal chest tub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Types &amp; complications of prosthetic cardiac valv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Indications &amp; lines of surgery in pulmonary T.B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 flail ches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Indications &amp; surgical complications of coronary artery by pass surge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Manifestations of mediastinal syndrom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Compare ( ) rigid &amp; fibro optic bronchoscope (indications, advantages – disadvantage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6600"/>
                </a:solidFill>
                <a:latin typeface="Arial Black"/>
              </a:rPr>
              <a:t>Anaesthesia</a:t>
            </a:r>
            <a:r>
              <a:rPr b="1" i="1" lang="en-US" sz="4400" spc="-1" strike="noStrike">
                <a:solidFill>
                  <a:srgbClr val="ff6600"/>
                </a:solidFill>
                <a:latin typeface="Arial Black"/>
              </a:rPr>
              <a:t> </a:t>
            </a:r>
            <a:endParaRPr b="1" i="1" lang="en-US" sz="44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antages, disadvantages &amp; complications of halothone anathesi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antages &amp; Complications of spinal anathesi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 pre-operative anathetic assessment &amp; med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 halothane &amp; isoflurane anathesi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antages &amp; disadvantages of isofluran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ications of general anathesi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antages &amp; disadvantages of ketamine anathesia   x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6600"/>
                </a:solidFill>
                <a:latin typeface="Arial Black"/>
              </a:rPr>
              <a:t>ANATOMY</a:t>
            </a:r>
            <a:endParaRPr b="1" i="1" lang="en-US" sz="44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248" name="Rectangle 2"/>
          <p:cNvSpPr/>
          <p:nvPr/>
        </p:nvSpPr>
        <p:spPr>
          <a:xfrm>
            <a:off x="0" y="1143000"/>
            <a:ext cx="8839080" cy="41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- tongue  x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- Parot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- thyroi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- facial ner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- esophagu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- stomac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- lesser sac   x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- splee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- liver   x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- anal canal   x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- inguinal ca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- femoral triang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3- breast  x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- pancreas  xx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6600"/>
                </a:solidFill>
                <a:latin typeface="Arial Black"/>
              </a:rPr>
              <a:t>Pancreas</a:t>
            </a:r>
            <a:endParaRPr b="1" i="1" lang="en-US" sz="44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ute pancre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cinoma of pancre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6600"/>
                </a:solidFill>
                <a:latin typeface="Arial Black"/>
              </a:rPr>
              <a:t>Liver</a:t>
            </a:r>
            <a:r>
              <a:rPr b="1" i="1" lang="en-US" sz="4400" spc="-1" strike="noStrike">
                <a:solidFill>
                  <a:srgbClr val="ff6600"/>
                </a:solidFill>
                <a:latin typeface="Arial Black"/>
              </a:rPr>
              <a:t> </a:t>
            </a:r>
            <a:endParaRPr b="1" i="1" lang="en-US" sz="44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pato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aries of liv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6600"/>
                </a:solidFill>
                <a:latin typeface="Arial Black"/>
              </a:rPr>
              <a:t>Spleen</a:t>
            </a:r>
            <a:r>
              <a:rPr b="1" i="1" lang="en-US" sz="4400" spc="-1" strike="noStrike">
                <a:solidFill>
                  <a:srgbClr val="ff6600"/>
                </a:solidFill>
                <a:latin typeface="Arial Black"/>
              </a:rPr>
              <a:t> </a:t>
            </a:r>
            <a:endParaRPr b="1" i="1" lang="en-US" sz="44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Management of rupture sple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6600"/>
                </a:solidFill>
                <a:latin typeface="Arial Black"/>
              </a:rPr>
              <a:t>Portal hypertension</a:t>
            </a:r>
            <a:r>
              <a:rPr b="1" i="1" lang="en-US" sz="4400" spc="-1" strike="noStrike">
                <a:solidFill>
                  <a:srgbClr val="ff6600"/>
                </a:solidFill>
                <a:latin typeface="Arial Black"/>
              </a:rPr>
              <a:t> </a:t>
            </a:r>
            <a:endParaRPr b="1" i="1" lang="en-US" sz="44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agement of variceal blee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6600"/>
                </a:solidFill>
                <a:latin typeface="Arial Black"/>
              </a:rPr>
              <a:t>GIT bleeding</a:t>
            </a:r>
            <a:endParaRPr b="1" i="1" lang="en-US" sz="44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0" y="1066680"/>
            <a:ext cx="82296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D of bleeding per rectu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agement of Haematems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1T22:11:28Z</dcterms:created>
  <dc:creator>ocmu_a</dc:creator>
  <dc:description/>
  <dc:language>en-US</dc:language>
  <cp:lastModifiedBy>jkjjjkjkjtrhgghg</cp:lastModifiedBy>
  <dcterms:modified xsi:type="dcterms:W3CDTF">2012-06-01T21:40:49Z</dcterms:modified>
  <cp:revision>214</cp:revision>
  <dc:subject/>
  <dc:title>Post cricoid carcinoma </dc:title>
</cp:coreProperties>
</file>